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3.jpeg" ContentType="image/jpeg"/>
  <Override PartName="/ppt/media/image8.jpeg" ContentType="image/jpeg"/>
  <Override PartName="/ppt/media/image5.png" ContentType="image/pn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18.png" ContentType="image/png"/>
  <Override PartName="/ppt/media/image6.jpeg" ContentType="image/jpeg"/>
  <Override PartName="/ppt/media/image10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7.jpeg" ContentType="image/jpeg"/>
  <Override PartName="/ppt/media/image14.png" ContentType="image/png"/>
  <Override PartName="/ppt/media/image22.jpeg" ContentType="image/jpeg"/>
  <Override PartName="/ppt/media/image1.jpeg" ContentType="image/jpeg"/>
  <Override PartName="/ppt/media/image23.jpeg" ContentType="image/jpeg"/>
  <Override PartName="/ppt/media/image2.jpeg" ContentType="image/jpeg"/>
  <Override PartName="/ppt/media/image4.jpeg" ContentType="image/jpeg"/>
  <Override PartName="/ppt/media/image25.jpeg" ContentType="image/jpe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D2914-A2D1-4B08-ACCA-B85404B81E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A91FB-765A-4B3B-8775-4C0D8556B7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EE124-ADDF-4027-B0C4-3BFF7525C2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7E6C2-FE1A-4A41-B91F-4ACFE639A3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BD330-2F9A-4FC6-9C1E-EF65A7210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107F0-8DB4-4EAB-A6CA-3FD4E90F6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14EAD-F0CB-4166-8FDF-D3008ACC5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1B1EA-1F33-4EB5-A9DC-ABEC5B815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2BBAC-9141-43E2-A2D8-026EE7980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7E168-6D46-4F45-B75D-F4B01EFF1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D8928-ECD4-45EB-B948-4DAC8D793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5CF54-3F07-4A7E-B237-CE21EE3FB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49435-0263-4F52-8E74-9540B2D63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008A9-B67A-41E8-A37C-FC5644BE6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262CC-618A-4F07-BA3A-CCA1D7190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A19DF-D840-4C30-A6F8-12FC38DC3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22DE7-59AA-4B79-85D4-4AD455E11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A6520-4D54-481D-A1D3-8354FC58F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BD0F0-755A-4E92-B5B8-303196B7B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0F84B-1D41-48C1-AE0A-CDCFEF832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789B8-432B-4A6A-A8BE-EF96D482F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2025D-490D-4AA2-8A82-70465134B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219AA-480B-428E-94DC-AD4AE9F5F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88E7B-B9B0-4699-9473-9A163F93C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05859-A47C-4A88-94FE-A319F4669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013BE-3989-4988-87D3-DE111A64A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3594C-77BA-4398-AE71-6E15FD60E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0C5F0-671D-494D-A57C-D7A994CF8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233DA-B7F4-47A4-8053-59C49DA0242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517D5-5A3A-40FE-9F25-B2749471458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0.jpeg"/><Relationship Id="rId5" Type="http://schemas.openxmlformats.org/officeDocument/2006/relationships/image" Target="../media/image20.jpeg"/><Relationship Id="rId6" Type="http://schemas.openxmlformats.org/officeDocument/2006/relationships/image" Target="../media/image20.jpeg"/><Relationship Id="rId7" Type="http://schemas.openxmlformats.org/officeDocument/2006/relationships/image" Target="../media/image21.jpeg"/><Relationship Id="rId8" Type="http://schemas.openxmlformats.org/officeDocument/2006/relationships/image" Target="../media/image21.jpeg"/><Relationship Id="rId9" Type="http://schemas.openxmlformats.org/officeDocument/2006/relationships/image" Target="../media/image21.jpeg"/><Relationship Id="rId10" Type="http://schemas.openxmlformats.org/officeDocument/2006/relationships/image" Target="../media/image21.jpeg"/><Relationship Id="rId11" Type="http://schemas.openxmlformats.org/officeDocument/2006/relationships/image" Target="../media/image21.jpeg"/><Relationship Id="rId12" Type="http://schemas.openxmlformats.org/officeDocument/2006/relationships/image" Target="../media/image21.jpeg"/><Relationship Id="rId13" Type="http://schemas.openxmlformats.org/officeDocument/2006/relationships/image" Target="../media/image21.jpeg"/><Relationship Id="rId14" Type="http://schemas.openxmlformats.org/officeDocument/2006/relationships/image" Target="../media/image21.jpeg"/><Relationship Id="rId15" Type="http://schemas.openxmlformats.org/officeDocument/2006/relationships/image" Target="../media/image21.jpeg"/><Relationship Id="rId1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google.com/url?sa=i&amp;rct=j&amp;q=molemap&amp;source=images&amp;cd=&amp;cad=rja&amp;docid=D_7TL6p0dxAAtM&amp;tbnid=90vUniL21RXVNM:&amp;ved=0CAUQjRw&amp;url=http%3A%2F%2Fblogs.reeths-puffer.org%2Fknappk%2F2011%2F12%2F07%2Fchemistry-unit-3-part-i-test-prep%2F&amp;ei=STBvUZj_NKeZ0QHUiYCAAQ&amp;bvm=bv.45368065,d.dmQ&amp;psig=AFQjCNH_tDDqCGG6GlaMHUBeJGSPS79WBA&amp;ust=1366327748120970" TargetMode="Externa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google.com/url?sa=i&amp;rct=j&amp;q=sodium&amp;source=images&amp;cd=&amp;cad=rja&amp;docid=g7x4cZglltb0PM&amp;tbnid=36EA-6_MWrArJM:&amp;ved=0CAUQjRw&amp;url=http%3A%2F%2Fwww.vanderkrogt.net%2Felements%2Felement.php%3Fsym%3DNa&amp;ei=Q-JvUb30NM2g4APN-IGYDQ&amp;bvm=bv.45368065,d.dmg&amp;psig=AFQjCNEku7cwOoMq5J0loNaZQ6cZneRZzA&amp;ust=1366373305288995" TargetMode="External"/><Relationship Id="rId2" Type="http://schemas.openxmlformats.org/officeDocument/2006/relationships/image" Target="../media/image12.jpeg"/><Relationship Id="rId3" Type="http://schemas.openxmlformats.org/officeDocument/2006/relationships/hyperlink" Target="http://www.google.com/url?sa=i&amp;rct=j&amp;q=carbon+dioxide&amp;source=images&amp;cd=&amp;cad=rja&amp;docid=ZpBUfJUD4z9F0M&amp;tbnid=5k_he8Zyd2S3IM:&amp;ved=0CAUQjRw&amp;url=http%3A%2F%2Fblogs.e-rockford.com%2Fapplesauce%2F2013%2F03%2F06%2Fsharp-increase-in-atmospheric-carbon-dioxide-brings-climate-catastrophe-closer%2F&amp;ei=ceJvUeTPJvLG4AP2xYHIBw&amp;bvm=bv.45368065,d.dmg&amp;psig=AFQjCNGX8PzGixc2iG7QJXyniQuhZaQJKA&amp;ust=1366373352976013" TargetMode="External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emical Quant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20574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pter 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arm-up #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5"/>
          <p:cNvSpPr/>
          <p:nvPr/>
        </p:nvSpPr>
        <p:spPr>
          <a:xfrm>
            <a:off x="685800" y="1752480"/>
            <a:ext cx="6629400" cy="16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contains more representative particles, a mole of Fe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S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r a mole of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?</a:t>
            </a:r>
            <a:r>
              <a:rPr b="0" lang="en-US" sz="3200" spc="-1" strike="noStrike">
                <a:solidFill>
                  <a:srgbClr val="0707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2" descr="http://www.waste.katalyst-tt.com/sites/default/files/WebPics/Chemicals.png"/>
          <p:cNvPicPr/>
          <p:nvPr/>
        </p:nvPicPr>
        <p:blipFill>
          <a:blip r:embed="rId1"/>
          <a:stretch/>
        </p:blipFill>
        <p:spPr>
          <a:xfrm>
            <a:off x="4686480" y="2981160"/>
            <a:ext cx="4457520" cy="387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Volume and the Mol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8" descr="32588093"/>
          <p:cNvPicPr/>
          <p:nvPr/>
        </p:nvPicPr>
        <p:blipFill>
          <a:blip r:embed="rId1"/>
          <a:stretch/>
        </p:blipFill>
        <p:spPr>
          <a:xfrm>
            <a:off x="1371600" y="3809880"/>
            <a:ext cx="2630520" cy="281952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4"/>
          <p:cNvSpPr/>
          <p:nvPr/>
        </p:nvSpPr>
        <p:spPr>
          <a:xfrm>
            <a:off x="533520" y="1523880"/>
            <a:ext cx="6781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ording to Avogadro, the mass of one mole of a gas at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ST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lways 22.4L regardless of the gas’ ident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5"/>
          <p:cNvSpPr/>
          <p:nvPr/>
        </p:nvSpPr>
        <p:spPr>
          <a:xfrm>
            <a:off x="1203480" y="33894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6"/>
          <p:cNvSpPr/>
          <p:nvPr/>
        </p:nvSpPr>
        <p:spPr>
          <a:xfrm>
            <a:off x="390240" y="3200400"/>
            <a:ext cx="696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STP = Standard Temperature and Pressure (0</a:t>
            </a:r>
            <a:r>
              <a:rPr b="0" lang="en-US" sz="2000" spc="-1" strike="noStrike" baseline="30000">
                <a:solidFill>
                  <a:srgbClr val="cc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C and 1 at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11" descr="6a00d83453c2c669e20134885f52fb970c-800wi"/>
          <p:cNvPicPr/>
          <p:nvPr/>
        </p:nvPicPr>
        <p:blipFill>
          <a:blip r:embed="rId2"/>
          <a:stretch/>
        </p:blipFill>
        <p:spPr>
          <a:xfrm>
            <a:off x="4800600" y="3962520"/>
            <a:ext cx="255600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Mole-Volume Conversion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0" y="182880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6000"/>
          </a:bodyPr>
          <a:p>
            <a:pPr marL="123480" indent="-123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23480" indent="-1234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ow many moles of CO are contained in 1.8L of CO gas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23480" indent="-123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23480" indent="-123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23480" indent="-123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23480" indent="-123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23480" indent="-1234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ow many Liters of SO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re represented by 0.5 moles of SO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as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2" descr="http://i.telegraph.co.uk/multimedia/archive/01395/Carbon-dioxide_1395149c.jpg"/>
          <p:cNvPicPr/>
          <p:nvPr/>
        </p:nvPicPr>
        <p:blipFill>
          <a:blip r:embed="rId1"/>
          <a:stretch/>
        </p:blipFill>
        <p:spPr>
          <a:xfrm>
            <a:off x="6248520" y="228600"/>
            <a:ext cx="267804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Multi-Step Conversion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2" descr="http://blogs.reeths-puffer.org/knappk/files/2011/12/MoleRoadMap.png"/>
          <p:cNvPicPr/>
          <p:nvPr/>
        </p:nvPicPr>
        <p:blipFill>
          <a:blip r:embed="rId1"/>
          <a:stretch/>
        </p:blipFill>
        <p:spPr>
          <a:xfrm>
            <a:off x="1096920" y="1832040"/>
            <a:ext cx="3689280" cy="3030480"/>
          </a:xfrm>
          <a:prstGeom prst="rect">
            <a:avLst/>
          </a:prstGeom>
          <a:ln w="0">
            <a:noFill/>
          </a:ln>
        </p:spPr>
      </p:pic>
      <p:sp>
        <p:nvSpPr>
          <p:cNvPr id="161" name="TextBox 10"/>
          <p:cNvSpPr/>
          <p:nvPr/>
        </p:nvSpPr>
        <p:spPr>
          <a:xfrm>
            <a:off x="2842920" y="3352680"/>
            <a:ext cx="30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mole = 6.02 x 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artic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2"/>
          <p:cNvSpPr/>
          <p:nvPr/>
        </p:nvSpPr>
        <p:spPr>
          <a:xfrm>
            <a:off x="-226800" y="3352680"/>
            <a:ext cx="22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mole = molar m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13"/>
          <p:cNvSpPr/>
          <p:nvPr/>
        </p:nvSpPr>
        <p:spPr>
          <a:xfrm>
            <a:off x="1561320" y="1447920"/>
            <a:ext cx="246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mole = 22.4 L at S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6"/>
          <p:cNvSpPr/>
          <p:nvPr/>
        </p:nvSpPr>
        <p:spPr>
          <a:xfrm>
            <a:off x="571320" y="5105520"/>
            <a:ext cx="709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mass of 1.0 x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19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toms of Aluminu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2" descr="http://media1.onsugar.com/files/users/6/61259/43_2007/fab_55.jpg"/>
          <p:cNvPicPr/>
          <p:nvPr/>
        </p:nvPicPr>
        <p:blipFill>
          <a:blip r:embed="rId1"/>
          <a:stretch/>
        </p:blipFill>
        <p:spPr>
          <a:xfrm>
            <a:off x="5638680" y="1066680"/>
            <a:ext cx="2381400" cy="23814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8" descr="https://encrypted-tbn0.gstatic.com/images?q=tbn:ANd9GcTW7gw9sVRJgarm2Pdd_Bk53p0-Fhc-Cl8cAFJfpSUw5GEy49kmEg"/>
          <p:cNvPicPr/>
          <p:nvPr/>
        </p:nvPicPr>
        <p:blipFill>
          <a:blip r:embed="rId2"/>
          <a:stretch/>
        </p:blipFill>
        <p:spPr>
          <a:xfrm>
            <a:off x="762120" y="990720"/>
            <a:ext cx="2143080" cy="214308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arm-up #4</a:t>
            </a:r>
            <a:br>
              <a:rPr sz="3800"/>
            </a:b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304776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ine the reaction above. Using the parts below, how many of the product could be mad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4" descr="https://encrypted-tbn1.gstatic.com/images?q=tbn:ANd9GcTBdMsKO4-BmanUDrwPIfRdcKeCV6-kG4NAmGhiPT6vr5LnIPXkdA"/>
          <p:cNvPicPr/>
          <p:nvPr/>
        </p:nvPicPr>
        <p:blipFill>
          <a:blip r:embed="rId3"/>
          <a:stretch/>
        </p:blipFill>
        <p:spPr>
          <a:xfrm>
            <a:off x="4038480" y="1752480"/>
            <a:ext cx="762120" cy="1067040"/>
          </a:xfrm>
          <a:prstGeom prst="rect">
            <a:avLst/>
          </a:prstGeom>
          <a:ln w="0">
            <a:noFill/>
          </a:ln>
        </p:spPr>
      </p:pic>
      <p:sp>
        <p:nvSpPr>
          <p:cNvPr id="170" name="TextBox 8"/>
          <p:cNvSpPr/>
          <p:nvPr/>
        </p:nvSpPr>
        <p:spPr>
          <a:xfrm>
            <a:off x="3124080" y="1676520"/>
            <a:ext cx="1371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+ 4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1" name="Straight Arrow Connector 10"/>
          <p:cNvCxnSpPr/>
          <p:nvPr/>
        </p:nvCxnSpPr>
        <p:spPr>
          <a:xfrm>
            <a:off x="4952880" y="2209320"/>
            <a:ext cx="61056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172" name="Picture 8" descr="https://encrypted-tbn0.gstatic.com/images?q=tbn:ANd9GcTW7gw9sVRJgarm2Pdd_Bk53p0-Fhc-Cl8cAFJfpSUw5GEy49kmEg"/>
          <p:cNvPicPr/>
          <p:nvPr/>
        </p:nvPicPr>
        <p:blipFill>
          <a:blip r:embed="rId4"/>
          <a:srcRect l="0" t="29498" r="0" b="33647"/>
          <a:stretch/>
        </p:blipFill>
        <p:spPr>
          <a:xfrm>
            <a:off x="685800" y="5029200"/>
            <a:ext cx="2066760" cy="7621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8" descr="https://encrypted-tbn0.gstatic.com/images?q=tbn:ANd9GcTW7gw9sVRJgarm2Pdd_Bk53p0-Fhc-Cl8cAFJfpSUw5GEy49kmEg"/>
          <p:cNvPicPr/>
          <p:nvPr/>
        </p:nvPicPr>
        <p:blipFill>
          <a:blip r:embed="rId5"/>
          <a:srcRect l="0" t="29498" r="0" b="33647"/>
          <a:stretch/>
        </p:blipFill>
        <p:spPr>
          <a:xfrm>
            <a:off x="1295280" y="5791320"/>
            <a:ext cx="2067120" cy="76176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8" descr="https://encrypted-tbn0.gstatic.com/images?q=tbn:ANd9GcTW7gw9sVRJgarm2Pdd_Bk53p0-Fhc-Cl8cAFJfpSUw5GEy49kmEg"/>
          <p:cNvPicPr/>
          <p:nvPr/>
        </p:nvPicPr>
        <p:blipFill>
          <a:blip r:embed="rId6"/>
          <a:srcRect l="0" t="29498" r="0" b="33647"/>
          <a:stretch/>
        </p:blipFill>
        <p:spPr>
          <a:xfrm>
            <a:off x="1523880" y="4343400"/>
            <a:ext cx="2067120" cy="76212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4" descr="https://encrypted-tbn1.gstatic.com/images?q=tbn:ANd9GcTBdMsKO4-BmanUDrwPIfRdcKeCV6-kG4NAmGhiPT6vr5LnIPXkdA"/>
          <p:cNvPicPr/>
          <p:nvPr/>
        </p:nvPicPr>
        <p:blipFill>
          <a:blip r:embed="rId7"/>
          <a:stretch/>
        </p:blipFill>
        <p:spPr>
          <a:xfrm>
            <a:off x="6438960" y="5029200"/>
            <a:ext cx="762120" cy="106668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4" descr="https://encrypted-tbn1.gstatic.com/images?q=tbn:ANd9GcTBdMsKO4-BmanUDrwPIfRdcKeCV6-kG4NAmGhiPT6vr5LnIPXkdA"/>
          <p:cNvPicPr/>
          <p:nvPr/>
        </p:nvPicPr>
        <p:blipFill>
          <a:blip r:embed="rId8"/>
          <a:stretch/>
        </p:blipFill>
        <p:spPr>
          <a:xfrm>
            <a:off x="8153280" y="5029200"/>
            <a:ext cx="762120" cy="106668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4" descr="https://encrypted-tbn1.gstatic.com/images?q=tbn:ANd9GcTBdMsKO4-BmanUDrwPIfRdcKeCV6-kG4NAmGhiPT6vr5LnIPXkdA"/>
          <p:cNvPicPr/>
          <p:nvPr/>
        </p:nvPicPr>
        <p:blipFill>
          <a:blip r:embed="rId9"/>
          <a:stretch/>
        </p:blipFill>
        <p:spPr>
          <a:xfrm>
            <a:off x="7581960" y="5029200"/>
            <a:ext cx="762120" cy="106668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4" descr="https://encrypted-tbn1.gstatic.com/images?q=tbn:ANd9GcTBdMsKO4-BmanUDrwPIfRdcKeCV6-kG4NAmGhiPT6vr5LnIPXkdA"/>
          <p:cNvPicPr/>
          <p:nvPr/>
        </p:nvPicPr>
        <p:blipFill>
          <a:blip r:embed="rId10"/>
          <a:stretch/>
        </p:blipFill>
        <p:spPr>
          <a:xfrm>
            <a:off x="5295960" y="5029200"/>
            <a:ext cx="762120" cy="10666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4" descr="https://encrypted-tbn1.gstatic.com/images?q=tbn:ANd9GcTBdMsKO4-BmanUDrwPIfRdcKeCV6-kG4NAmGhiPT6vr5LnIPXkdA"/>
          <p:cNvPicPr/>
          <p:nvPr/>
        </p:nvPicPr>
        <p:blipFill>
          <a:blip r:embed="rId11"/>
          <a:stretch/>
        </p:blipFill>
        <p:spPr>
          <a:xfrm>
            <a:off x="4724280" y="5029200"/>
            <a:ext cx="762120" cy="106668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4" descr="https://encrypted-tbn1.gstatic.com/images?q=tbn:ANd9GcTBdMsKO4-BmanUDrwPIfRdcKeCV6-kG4NAmGhiPT6vr5LnIPXkdA"/>
          <p:cNvPicPr/>
          <p:nvPr/>
        </p:nvPicPr>
        <p:blipFill>
          <a:blip r:embed="rId12"/>
          <a:stretch/>
        </p:blipFill>
        <p:spPr>
          <a:xfrm>
            <a:off x="7010280" y="5029200"/>
            <a:ext cx="762120" cy="106668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4" descr="https://encrypted-tbn1.gstatic.com/images?q=tbn:ANd9GcTBdMsKO4-BmanUDrwPIfRdcKeCV6-kG4NAmGhiPT6vr5LnIPXkdA"/>
          <p:cNvPicPr/>
          <p:nvPr/>
        </p:nvPicPr>
        <p:blipFill>
          <a:blip r:embed="rId13"/>
          <a:stretch/>
        </p:blipFill>
        <p:spPr>
          <a:xfrm>
            <a:off x="4152960" y="5029200"/>
            <a:ext cx="762120" cy="106668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4" descr="https://encrypted-tbn1.gstatic.com/images?q=tbn:ANd9GcTBdMsKO4-BmanUDrwPIfRdcKeCV6-kG4NAmGhiPT6vr5LnIPXkdA"/>
          <p:cNvPicPr/>
          <p:nvPr/>
        </p:nvPicPr>
        <p:blipFill>
          <a:blip r:embed="rId14"/>
          <a:stretch/>
        </p:blipFill>
        <p:spPr>
          <a:xfrm>
            <a:off x="5867280" y="5029200"/>
            <a:ext cx="762120" cy="106668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4" descr="https://encrypted-tbn1.gstatic.com/images?q=tbn:ANd9GcTBdMsKO4-BmanUDrwPIfRdcKeCV6-kG4NAmGhiPT6vr5LnIPXkdA"/>
          <p:cNvPicPr/>
          <p:nvPr/>
        </p:nvPicPr>
        <p:blipFill>
          <a:blip r:embed="rId15"/>
          <a:stretch/>
        </p:blipFill>
        <p:spPr>
          <a:xfrm>
            <a:off x="3581280" y="5029200"/>
            <a:ext cx="76212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at is Stoichiometry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2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oichiometry is the study of quantitative relationships between amounts of reactants used and products formed by a chemical re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5" descr="l_product_image"/>
          <p:cNvPicPr/>
          <p:nvPr/>
        </p:nvPicPr>
        <p:blipFill>
          <a:blip r:embed="rId1"/>
          <a:stretch/>
        </p:blipFill>
        <p:spPr>
          <a:xfrm>
            <a:off x="2666880" y="3556080"/>
            <a:ext cx="3429000" cy="303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Practical Applications of Stoichiometry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a spacecraft, the carbon dioxide exhaled by astronauts can be removed by its reaction with lithium hydroxide, LiOH, according to the following chemical equation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g) + 2LiOH(s)    L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s) +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(l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any moles of lithium hydroxide are required to react with 20 mol of C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the average amount exhaled by a person each day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4"/>
          <p:cNvSpPr/>
          <p:nvPr/>
        </p:nvSpPr>
        <p:spPr>
          <a:xfrm>
            <a:off x="3962520" y="38862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trategy – Relate everything to the mol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7" descr="mole01"/>
          <p:cNvPicPr/>
          <p:nvPr/>
        </p:nvPicPr>
        <p:blipFill>
          <a:blip r:embed="rId1"/>
          <a:stretch/>
        </p:blipFill>
        <p:spPr>
          <a:xfrm>
            <a:off x="6019920" y="1371600"/>
            <a:ext cx="2971800" cy="204804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8"/>
          <p:cNvSpPr/>
          <p:nvPr/>
        </p:nvSpPr>
        <p:spPr>
          <a:xfrm>
            <a:off x="533520" y="1905120"/>
            <a:ext cx="5410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ole is the common thread that links reactants to produc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9"/>
          <p:cNvSpPr/>
          <p:nvPr/>
        </p:nvSpPr>
        <p:spPr>
          <a:xfrm>
            <a:off x="838080" y="3657600"/>
            <a:ext cx="784872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g) +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OH(s)  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s) +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(l)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10"/>
          <p:cNvSpPr/>
          <p:nvPr/>
        </p:nvSpPr>
        <p:spPr>
          <a:xfrm>
            <a:off x="4114800" y="3962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11"/>
          <p:cNvSpPr/>
          <p:nvPr/>
        </p:nvSpPr>
        <p:spPr>
          <a:xfrm>
            <a:off x="3962520" y="449568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le Rat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Object 12"/>
              <p:cNvSpPr txBox="1"/>
              <p:nvPr/>
            </p:nvSpPr>
            <p:spPr>
              <a:xfrm>
                <a:off x="457200" y="5181480"/>
                <a:ext cx="1523880" cy="80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olC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molLiOH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" name="Object 13"/>
              <p:cNvSpPr txBox="1"/>
              <p:nvPr/>
            </p:nvSpPr>
            <p:spPr>
              <a:xfrm>
                <a:off x="2057400" y="5181480"/>
                <a:ext cx="160164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olC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olL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" name="Object 14"/>
              <p:cNvSpPr txBox="1"/>
              <p:nvPr/>
            </p:nvSpPr>
            <p:spPr>
              <a:xfrm>
                <a:off x="3849840" y="5143680"/>
                <a:ext cx="1292040" cy="87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olC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ol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O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Object 15"/>
              <p:cNvSpPr txBox="1"/>
              <p:nvPr/>
            </p:nvSpPr>
            <p:spPr>
              <a:xfrm>
                <a:off x="5219640" y="5143680"/>
                <a:ext cx="1602000" cy="87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molLiOH</m:t>
                        </m:r>
                      </m:num>
                      <m:den>
                        <m:r>
                          <m:t xml:space="preserve">1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olL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" name="Object 16"/>
              <p:cNvSpPr txBox="1"/>
              <p:nvPr/>
            </p:nvSpPr>
            <p:spPr>
              <a:xfrm>
                <a:off x="7012080" y="5105520"/>
                <a:ext cx="1522440" cy="87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molLiOH</m:t>
                        </m:r>
                      </m:num>
                      <m:den>
                        <m:r>
                          <m:t xml:space="preserve">1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ol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O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Mole Super Highway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2" descr="http://moodleshare.org/pluginfile.php/8845/mod_page/content/1/Stoichiometry/Images/Topic_5/Full_Road_Map.jpg"/>
          <p:cNvPicPr/>
          <p:nvPr/>
        </p:nvPicPr>
        <p:blipFill>
          <a:blip r:embed="rId1"/>
          <a:stretch/>
        </p:blipFill>
        <p:spPr>
          <a:xfrm>
            <a:off x="1143000" y="1447920"/>
            <a:ext cx="62848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toichiometry Practice Problem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3"/>
          <p:cNvSpPr/>
          <p:nvPr/>
        </p:nvSpPr>
        <p:spPr>
          <a:xfrm>
            <a:off x="1879920" y="1600200"/>
            <a:ext cx="49680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g) + 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g)        2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(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5" name="Straight Arrow Connector 8"/>
          <p:cNvCxnSpPr/>
          <p:nvPr/>
        </p:nvCxnSpPr>
        <p:spPr>
          <a:xfrm>
            <a:off x="4647960" y="1904760"/>
            <a:ext cx="68652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6" name="TextBox 9"/>
          <p:cNvSpPr/>
          <p:nvPr/>
        </p:nvSpPr>
        <p:spPr>
          <a:xfrm>
            <a:off x="609480" y="2590920"/>
            <a:ext cx="7925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any moles of water can be formed fr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 moles of oxyge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Box 10"/>
          <p:cNvSpPr/>
          <p:nvPr/>
        </p:nvSpPr>
        <p:spPr>
          <a:xfrm>
            <a:off x="685800" y="4572000"/>
            <a:ext cx="7924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any grams of water can be formed fr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0 grams of hydrogen gas a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121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 all these things have in common with the mo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5" descr="Donuts"/>
          <p:cNvPicPr/>
          <p:nvPr/>
        </p:nvPicPr>
        <p:blipFill>
          <a:blip r:embed="rId1"/>
          <a:stretch/>
        </p:blipFill>
        <p:spPr>
          <a:xfrm>
            <a:off x="914400" y="3465360"/>
            <a:ext cx="2319480" cy="17607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8" descr="ANd9GcRQlmY-IEAeUfCcA09UlJJodBB9jxZ6sdjOLeAE5c3R-zJi7FwIlg&amp;t=1"/>
          <p:cNvPicPr/>
          <p:nvPr/>
        </p:nvPicPr>
        <p:blipFill>
          <a:blip r:embed="rId2"/>
          <a:stretch/>
        </p:blipFill>
        <p:spPr>
          <a:xfrm>
            <a:off x="3581280" y="342900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1" descr="COKE"/>
          <p:cNvPicPr/>
          <p:nvPr/>
        </p:nvPicPr>
        <p:blipFill>
          <a:blip r:embed="rId3"/>
          <a:stretch/>
        </p:blipFill>
        <p:spPr>
          <a:xfrm>
            <a:off x="6248520" y="3429000"/>
            <a:ext cx="2381040" cy="1847880"/>
          </a:xfrm>
          <a:prstGeom prst="rect">
            <a:avLst/>
          </a:prstGeom>
          <a:ln w="0">
            <a:noFill/>
          </a:ln>
        </p:spPr>
      </p:pic>
      <p:sp>
        <p:nvSpPr>
          <p:cNvPr id="108" name="TextBox 10"/>
          <p:cNvSpPr/>
          <p:nvPr/>
        </p:nvSpPr>
        <p:spPr>
          <a:xfrm>
            <a:off x="1530720" y="5410080"/>
            <a:ext cx="99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doz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11"/>
          <p:cNvSpPr/>
          <p:nvPr/>
        </p:nvSpPr>
        <p:spPr>
          <a:xfrm>
            <a:off x="4425120" y="541008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pa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12"/>
          <p:cNvSpPr/>
          <p:nvPr/>
        </p:nvSpPr>
        <p:spPr>
          <a:xfrm>
            <a:off x="7018200" y="5410080"/>
            <a:ext cx="11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six p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13"/>
          <p:cNvSpPr/>
          <p:nvPr/>
        </p:nvSpPr>
        <p:spPr>
          <a:xfrm>
            <a:off x="1905120" y="6095880"/>
            <a:ext cx="58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swer:   They all represent quant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14"/>
          <p:cNvSpPr/>
          <p:nvPr/>
        </p:nvSpPr>
        <p:spPr>
          <a:xfrm>
            <a:off x="387000" y="457200"/>
            <a:ext cx="3256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rm-up #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arm-up #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19"/>
          <p:cNvSpPr/>
          <p:nvPr/>
        </p:nvSpPr>
        <p:spPr>
          <a:xfrm>
            <a:off x="535320" y="1676520"/>
            <a:ext cx="343152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gred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1/4 cups all-purpose flou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teaspoon baking sod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teaspoon sal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cup (2 sticks) butter, soften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/4 cup granulated suga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/4 cup packed brown suga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teaspoon vanilla extra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large egg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cups (12-oz. pkg.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cup chopped nu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ield:  24 cook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6" descr="02x23879"/>
          <p:cNvPicPr/>
          <p:nvPr/>
        </p:nvPicPr>
        <p:blipFill>
          <a:blip r:embed="rId1"/>
          <a:stretch/>
        </p:blipFill>
        <p:spPr>
          <a:xfrm>
            <a:off x="4191120" y="1752480"/>
            <a:ext cx="3741480" cy="3353040"/>
          </a:xfrm>
          <a:prstGeom prst="rect">
            <a:avLst/>
          </a:prstGeom>
          <a:ln w="0">
            <a:noFill/>
          </a:ln>
        </p:spPr>
      </p:pic>
      <p:sp>
        <p:nvSpPr>
          <p:cNvPr id="211" name="Rectangle 4"/>
          <p:cNvSpPr/>
          <p:nvPr/>
        </p:nvSpPr>
        <p:spPr>
          <a:xfrm>
            <a:off x="685800" y="541008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many cookies can be made if I only have 1 stick of butter and 1 cup of sugar (and the exact quantity of the other ingredients in the recipe)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Measuring Matter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380880" y="12189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a mo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ole (mol) is the SI base unit used to measure the amount of a subst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mol = 6.02x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presentative partic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02x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called Avogadro’s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resentative particles are the units used in these convers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75"/>
              </a:spcBef>
              <a:buClr>
                <a:srgbClr val="ccccff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5"/>
          <p:cNvSpPr/>
          <p:nvPr/>
        </p:nvSpPr>
        <p:spPr>
          <a:xfrm>
            <a:off x="3352680" y="5410080"/>
            <a:ext cx="325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cles Nam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7"/>
          <p:cNvSpPr/>
          <p:nvPr/>
        </p:nvSpPr>
        <p:spPr>
          <a:xfrm>
            <a:off x="291240" y="6019920"/>
            <a:ext cx="851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oms, formula units (ionic compounds), molecules (covalent compound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2" descr="http://profitablegrowth.com/wp-content/uploads/2010/01/Mole.jpg"/>
          <p:cNvPicPr/>
          <p:nvPr/>
        </p:nvPicPr>
        <p:blipFill>
          <a:blip r:embed="rId1"/>
          <a:stretch/>
        </p:blipFill>
        <p:spPr>
          <a:xfrm>
            <a:off x="6248520" y="228600"/>
            <a:ext cx="2438280" cy="17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23960" y="175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Everything Leads to the Mol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2" descr="http://blogs.reeths-puffer.org/knappk/files/2011/12/MoleRoadMap.p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52480" y="1843200"/>
            <a:ext cx="5639040" cy="4848120"/>
          </a:xfrm>
          <a:prstGeom prst="rect">
            <a:avLst/>
          </a:prstGeom>
          <a:ln w="0">
            <a:noFill/>
          </a:ln>
        </p:spPr>
      </p:pic>
      <p:sp>
        <p:nvSpPr>
          <p:cNvPr id="120" name="TextBox 10"/>
          <p:cNvSpPr/>
          <p:nvPr/>
        </p:nvSpPr>
        <p:spPr>
          <a:xfrm>
            <a:off x="5522040" y="4387680"/>
            <a:ext cx="30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mole = 6.02 x 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artic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905040" y="4387680"/>
            <a:ext cx="22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mole = molar m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13"/>
          <p:cNvSpPr/>
          <p:nvPr/>
        </p:nvSpPr>
        <p:spPr>
          <a:xfrm>
            <a:off x="3169440" y="1473120"/>
            <a:ext cx="246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mole = 22.4 L at S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Mole to Particle Conversion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2057040"/>
            <a:ext cx="85345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5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many molecules of water are there in 2.4 moles of wat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many moles of copper contain 3.5 x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18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pper ato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1"/>
          <p:cNvSpPr/>
          <p:nvPr/>
        </p:nvSpPr>
        <p:spPr>
          <a:xfrm>
            <a:off x="1922400" y="1371600"/>
            <a:ext cx="5486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mole = 6.02 x 10</a:t>
            </a:r>
            <a:r>
              <a:rPr b="0" lang="en-US" sz="2800" spc="-1" strike="noStrike" baseline="30000">
                <a:solidFill>
                  <a:srgbClr val="ff0000"/>
                </a:solidFill>
                <a:latin typeface="Arial"/>
              </a:rPr>
              <a:t>23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partic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arm-up #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80880" y="1447920"/>
            <a:ext cx="8229600" cy="422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mass of this bicycle given the mass of it’s individual par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wheel = 0.5 kg, 1frame = 5 kg, 1seat = 0.2 kg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set of handlebars = 1k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2" descr="https://encrypted-tbn1.gstatic.com/images?q=tbn:ANd9GcQGIztAjwxNlDwEOyqzqlI4mnrvcRXlSlRZ_dylHPG2d_ypkjedLg"/>
          <p:cNvPicPr/>
          <p:nvPr/>
        </p:nvPicPr>
        <p:blipFill>
          <a:blip r:embed="rId1"/>
          <a:stretch/>
        </p:blipFill>
        <p:spPr>
          <a:xfrm>
            <a:off x="2208240" y="3657600"/>
            <a:ext cx="4159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Mass and the Mol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7" descr="lead"/>
          <p:cNvPicPr/>
          <p:nvPr/>
        </p:nvPicPr>
        <p:blipFill>
          <a:blip r:embed="rId1"/>
          <a:stretch/>
        </p:blipFill>
        <p:spPr>
          <a:xfrm>
            <a:off x="533520" y="3406680"/>
            <a:ext cx="2209680" cy="17701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0" descr="Copper"/>
          <p:cNvPicPr/>
          <p:nvPr/>
        </p:nvPicPr>
        <p:blipFill>
          <a:blip r:embed="rId2"/>
          <a:stretch/>
        </p:blipFill>
        <p:spPr>
          <a:xfrm>
            <a:off x="6172200" y="3352680"/>
            <a:ext cx="2362320" cy="194472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4"/>
          <p:cNvSpPr/>
          <p:nvPr/>
        </p:nvSpPr>
        <p:spPr>
          <a:xfrm>
            <a:off x="609480" y="1447920"/>
            <a:ext cx="7848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ass of one mole of a substance is unique to that substance and is based on the sum of the atomic masses of the elements in that substa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13" descr="water"/>
          <p:cNvPicPr/>
          <p:nvPr/>
        </p:nvPicPr>
        <p:blipFill>
          <a:blip r:embed="rId3"/>
          <a:stretch/>
        </p:blipFill>
        <p:spPr>
          <a:xfrm>
            <a:off x="3276720" y="3352680"/>
            <a:ext cx="2361960" cy="189072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15"/>
          <p:cNvSpPr/>
          <p:nvPr/>
        </p:nvSpPr>
        <p:spPr>
          <a:xfrm>
            <a:off x="228600" y="548640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mole of lead = 207.2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6"/>
          <p:cNvSpPr/>
          <p:nvPr/>
        </p:nvSpPr>
        <p:spPr>
          <a:xfrm>
            <a:off x="3200400" y="548640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mole of water = 18.0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7"/>
          <p:cNvSpPr/>
          <p:nvPr/>
        </p:nvSpPr>
        <p:spPr>
          <a:xfrm>
            <a:off x="6172200" y="541008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mole of copper = 63.6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8"/>
          <p:cNvSpPr/>
          <p:nvPr/>
        </p:nvSpPr>
        <p:spPr>
          <a:xfrm>
            <a:off x="921960" y="6019920"/>
            <a:ext cx="7517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707ff"/>
                </a:solidFill>
                <a:latin typeface="Arial"/>
              </a:rPr>
              <a:t>Mass of H</a:t>
            </a:r>
            <a:r>
              <a:rPr b="0" lang="en-US" sz="1800" spc="-1" strike="noStrike" baseline="-25000">
                <a:solidFill>
                  <a:srgbClr val="0707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707ff"/>
                </a:solidFill>
                <a:latin typeface="Arial"/>
              </a:rPr>
              <a:t>O = mass of two hydrogen atoms + mass of one oxygen a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3" descr=""/>
          <p:cNvPicPr/>
          <p:nvPr/>
        </p:nvPicPr>
        <p:blipFill>
          <a:blip r:embed="rId1"/>
          <a:stretch/>
        </p:blipFill>
        <p:spPr>
          <a:xfrm>
            <a:off x="7429680" y="5143680"/>
            <a:ext cx="1714320" cy="171432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alculating Molar Mas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80520" y="1447560"/>
            <a:ext cx="73962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8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olar mass of elements is equal to their atomic mass from the periodic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 1 mole of Fe atoms = 55.847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ou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olar mass of compounds is equal to the sum of the atomic masses of the individual elements in that compou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 1 mole of F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2 x 55.847) + (3 x 32.066) + (12 x 15.999) = 401.66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6" descr=""/>
          <p:cNvPicPr/>
          <p:nvPr/>
        </p:nvPicPr>
        <p:blipFill>
          <a:blip r:embed="rId2"/>
          <a:stretch/>
        </p:blipFill>
        <p:spPr>
          <a:xfrm>
            <a:off x="7315200" y="2666880"/>
            <a:ext cx="1380960" cy="12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Mole-Mass Conversion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447920"/>
            <a:ext cx="8686800" cy="12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like mole-particle conversions where the conversion factor is always 1mole = 6.02 x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3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ticles, each mole-mass conversion factor is unique to the substance involv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5"/>
          <p:cNvSpPr/>
          <p:nvPr/>
        </p:nvSpPr>
        <p:spPr>
          <a:xfrm>
            <a:off x="414000" y="3048120"/>
            <a:ext cx="6910560" cy="233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rt  2.3 moles of sodium (Na) to grams of 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rt 10.0 g of 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moles of 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2" descr="http://www.vanderkrogt.net/elements/images/elements/Na_sodium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238880" y="3581280"/>
            <a:ext cx="1712880" cy="12193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4" descr="http://t1.gstatic.com/images?q=tbn:ANd9GcTXe0tqkpQfm6m18w499582XbqLMdXfLrurcUt8BMRnnxzhx8rW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238880" y="5295960"/>
            <a:ext cx="1676520" cy="125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30T13:39:21Z</dcterms:created>
  <dc:creator>udsd</dc:creator>
  <dc:description/>
  <dc:language>en-US</dc:language>
  <cp:lastModifiedBy>dpav</cp:lastModifiedBy>
  <dcterms:modified xsi:type="dcterms:W3CDTF">2013-04-18T17:48:12Z</dcterms:modified>
  <cp:revision>47</cp:revision>
  <dc:subject/>
  <dc:title>The Mole</dc:title>
</cp:coreProperties>
</file>